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EEPCHP.WAV" ContentType="audio/x-wav"/>
  <Override PartName="/ppt/media/music.wav" ContentType="audio/x-wav"/>
  <Override PartName="/ppt/media/image1.wmf" ContentType="image/x-wmf"/>
  <Override PartName="/ppt/media/BWINGING.WAV" ContentType="audio/x-wav"/>
  <Override PartName="/ppt/media/suctio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480-A806-4A37-BC69-AC390D8F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C32-66F8-41A0-9463-FA5946DA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AF5-8C39-4DA7-827D-4A45A58F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34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34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5DC-E881-439F-AEBC-F7261149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5514-BD87-4C52-AB78-18EAF63E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98EA-43B7-4791-AF07-9B65F2BA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148B-4705-465B-815B-586714F7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D65B-8F61-4019-BCD3-85BD7B30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32E4-E828-495C-BF36-CF3D0C98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0617-0290-40E8-BDAE-C50AC1E9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24BA-06FC-4E4B-8611-F6E85BC2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BC4-AA2E-4BC6-950B-D2ED5C6B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4D96-E1CC-4912-92FA-5B5BCFDC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169A-84DD-4415-A7A4-53603B4E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BEE1-9C9E-4FE3-B20B-A0FE7980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D169-9DFC-4630-AE60-F8777564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32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34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32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34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3992-DBF8-42E8-AD96-7E05D4DA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D64-8F12-4696-A0BE-D330705B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D9C-CB1E-4BEA-90B6-311BD9A0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1C4-7627-4F3A-9789-CF33F2C5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630-4AD5-4808-94A1-ED4373E9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E8C-B5C6-4B10-BC38-25A1EF6D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DDB4-F062-430F-B4AC-F83A81B4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FD5-3481-42B3-BE13-24E1211B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0E3F-309D-4443-8338-1F92B4929DA9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0659-1181-4E76-A352-52B8436F9EED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EEPCHP.WAV"/><Relationship Id="rId2" Type="http://schemas.openxmlformats.org/officeDocument/2006/relationships/audio" Target="../media/music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WINGING.WAV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71640" y="765000"/>
            <a:ext cx="3672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درس الثالث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71640" y="2997360"/>
            <a:ext cx="7632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latin typeface="Hesham AlSharq"/>
              </a:rPr>
              <a:t>كتابة علمية ( تغير الفصول )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43280" y="115920"/>
            <a:ext cx="4680000" cy="907920"/>
          </a:xfrm>
          <a:custGeom>
            <a:avLst/>
            <a:gdLst>
              <a:gd name="textAreaLeft" fmla="*/ 736920 w 4680000"/>
              <a:gd name="textAreaRight" fmla="*/ 3943080 w 4680000"/>
              <a:gd name="textAreaTop" fmla="*/ 113400 h 907920"/>
              <a:gd name="textAreaBottom" fmla="*/ 90828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فى الصورة الاولى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1172520"/>
            <a:ext cx="806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(  فصل الربيع ) : يكون الطقس مشمسا  لِساعاتٍ طَويلَةٍ، فيُدْفِئُ الْيابِسَةَ وَالْهَواءَ وَالْماءَ. وتَنْمُو النَّباتاتُ. وَيَتوافَرُ لِلْحَيَواناتِ طَعامٌ كَثيرٌ. وَتَنْموَ صِغارُها، وَتُصْبِحُ أَكْبَرَ وَأَقْوى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4724280"/>
            <a:ext cx="3889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2637000"/>
            <a:ext cx="79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ـ ( فصل الشِّتاءُ) :  أَكْثَرُ الْفُصولِ بُرودَةً. يَكونُ الطَّقْسُ فِيْهِ مُشْمِسًا لِساعاتٍ قَليلَةٍ، وَتَتَسَاقَطُ فِيْه الأَمْطارُ، وَأَحْيانًا البَرَدُ والثُّلوج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620640"/>
            <a:ext cx="5112000" cy="908280"/>
          </a:xfrm>
          <a:custGeom>
            <a:avLst/>
            <a:gdLst>
              <a:gd name="textAreaLeft" fmla="*/ 804960 w 5112000"/>
              <a:gd name="textAreaRight" fmla="*/ 4307040 w 5112000"/>
              <a:gd name="textAreaTop" fmla="*/ 113400 h 908280"/>
              <a:gd name="textAreaBottom" fmla="*/ 908640 h 90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فى الصورة الثان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4724280"/>
            <a:ext cx="3889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978840"/>
            <a:ext cx="820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وجه الأختلاف بين الصورت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فى الصورة الأولى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: الورود متفتحة والجو جميل و مشمس والسماء صافي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فى الصورة الثاني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: الجو بارد والجليد يتساقط والاشجار ليست مزهر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63640" y="836640"/>
            <a:ext cx="6624720" cy="936720"/>
          </a:xfrm>
          <a:custGeom>
            <a:avLst/>
            <a:gdLst>
              <a:gd name="textAreaLeft" fmla="*/ 1043280 w 6624720"/>
              <a:gd name="textAreaRight" fmla="*/ 5581440 w 6624720"/>
              <a:gd name="textAreaTop" fmla="*/ 11700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البس فى فصل الربيع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34936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فى الربيع نلبس الملابس الخفيفة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WING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1368720" y="3015720"/>
            <a:ext cx="1188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فى فصل الشتاء نلبس الملابس الثقيلة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1052640"/>
            <a:ext cx="6624720" cy="936360"/>
          </a:xfrm>
          <a:custGeom>
            <a:avLst/>
            <a:gdLst>
              <a:gd name="textAreaLeft" fmla="*/ 1043280 w 6624720"/>
              <a:gd name="textAreaRight" fmla="*/ 5581440 w 6624720"/>
              <a:gd name="textAreaTop" fmla="*/ 11700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البس فى فصل الشتاء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29T10:38:28Z</dcterms:modified>
  <cp:revision>30</cp:revision>
  <dc:subject/>
  <dc:title>PowerPoint Presentation</dc:title>
</cp:coreProperties>
</file>